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8B17-B960-4BC8-AFE2-488731A8F2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7BD1-3862-4414-92D0-8CA5240D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B2E-6B5F-4705-AB52-53748DA4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7502-99ED-42F0-B001-2AA21C7C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7D4-997E-4B7B-9281-1035DA55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5A2-232D-4827-A6B5-BBF8007D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D5F-7D97-4344-B54E-BD49DDF9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CCE-8769-4388-9957-F6E3E726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166-60DE-4524-BA69-85106D7A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53B4-CE60-40E2-A440-48AE8243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AA6-71C2-4848-AD1A-0526F5FC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88A-45BF-482A-B7C3-9390D6B4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B56-840F-41CA-A3EE-EEF2EE1D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8C1B-8920-4DA4-AB8A-2DE56C96B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(Last)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ing/Meridian/Sett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371600"/>
          <a:ext cx="8610480" cy="4664160"/>
        </p:xfrm>
        <a:graphic>
          <a:graphicData uri="http://schemas.openxmlformats.org/drawingml/2006/table">
            <a:tbl>
              <a:tblPr/>
              <a:tblGrid>
                <a:gridCol w="3048120"/>
                <a:gridCol w="1904760"/>
                <a:gridCol w="1828800"/>
                <a:gridCol w="18288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i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Gibb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499"/>
          <p:cNvSpPr/>
          <p:nvPr/>
        </p:nvSpPr>
        <p:spPr>
          <a:xfrm>
            <a:off x="609480" y="6095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5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Peri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dereal Period – 27.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a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e orbital period 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dic Period – 29.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riod of the cycle of lunar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entire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partial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umbr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inside the Earth’s pen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complete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partial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ular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Tides – strong tides when the moon and sun are al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19:17:11Z</dcterms:created>
  <dc:creator>Preferred Customer</dc:creator>
  <dc:description/>
  <dc:language>en-US</dc:language>
  <cp:lastModifiedBy>LEGION</cp:lastModifiedBy>
  <dcterms:modified xsi:type="dcterms:W3CDTF">2018-03-22T10:00:08Z</dcterms:modified>
  <cp:revision>22</cp:revision>
  <dc:subject/>
  <dc:title>Phases of the Moon</dc:title>
</cp:coreProperties>
</file>